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9F102F-7BE3-4036-8996-3D3B47FCF5E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B71982-9FBC-4A28-BAED-168CEB93D9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886537-29D8-44D0-A060-59A3DC8935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506C0A-ADC6-4166-93D0-A77571CEBB7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CB886F-2687-48A1-8862-065D409EC8E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793666-02FB-4B58-88E9-60968C94219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3cfe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134136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" name="Picture 44" descr=""/>
          <p:cNvPicPr/>
          <p:nvPr/>
        </p:nvPicPr>
        <p:blipFill>
          <a:blip r:embed="rId2"/>
          <a:stretch/>
        </p:blipFill>
        <p:spPr>
          <a:xfrm>
            <a:off x="0" y="6265800"/>
            <a:ext cx="1352520" cy="592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5" descr="bacia2"/>
          <p:cNvPicPr/>
          <p:nvPr/>
        </p:nvPicPr>
        <p:blipFill>
          <a:blip r:embed="rId3"/>
          <a:stretch/>
        </p:blipFill>
        <p:spPr>
          <a:xfrm>
            <a:off x="0" y="-2700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6"/>
          <p:cNvSpPr/>
          <p:nvPr/>
        </p:nvSpPr>
        <p:spPr>
          <a:xfrm>
            <a:off x="200160" y="6264360"/>
            <a:ext cx="9432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Tahoma"/>
              </a:rPr>
              <a:t>Gerência de Cobrança pelo Uso de Recursos Hídricos - GECOB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Tahoma"/>
              </a:rPr>
              <a:t>Superintendência de Apoio a Gestão de Recursos Hídricos - S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00160" y="1628640"/>
            <a:ext cx="9345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abulação das respostas do questionário 2009 dos Fundo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staduais de Recursos Hídric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84320" y="5661000"/>
            <a:ext cx="2936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Brasília, 05 de Outubro de 2009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857240" y="1339920"/>
            <a:ext cx="568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Equip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216000" y="1484280"/>
            <a:ext cx="9451800" cy="4752720"/>
            <a:chOff x="216000" y="1484280"/>
            <a:chExt cx="9451800" cy="4752720"/>
          </a:xfrm>
        </p:grpSpPr>
        <p:sp>
          <p:nvSpPr>
            <p:cNvPr id="82" name="Rectangle 6"/>
            <p:cNvSpPr/>
            <p:nvPr/>
          </p:nvSpPr>
          <p:spPr>
            <a:xfrm>
              <a:off x="216000" y="1484280"/>
              <a:ext cx="51188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ahoma"/>
                </a:rPr>
                <a:t>Rodrigo Flecha Ferreira Alve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3366"/>
                  </a:solidFill>
                  <a:latin typeface="Tahoma"/>
                </a:rPr>
                <a:t>Superintendente de Apoio à Gestão de Recursos Hídricos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763560" y="5345280"/>
              <a:ext cx="8904240" cy="8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3366"/>
                  </a:solidFill>
                  <a:latin typeface="Tahoma"/>
                </a:rPr>
                <a:t>Gerência de Cobrança pelo uso de Recursos Hídricos da Superintendência de Apoio à Gestão de Recursos Hídricos – GECOB/SAG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66"/>
                  </a:solidFill>
                  <a:latin typeface="Tahoma"/>
                </a:rPr>
                <a:t>Agência Nacional de Águas – ANA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66"/>
                  </a:solidFill>
                  <a:latin typeface="Tahoma"/>
                </a:rPr>
                <a:t>Tel: (61) 2109 – 5437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831600" y="2597040"/>
              <a:ext cx="40381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Arial"/>
                </a:rPr>
                <a:t>Giordano Bruno B. de Carvalho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3366"/>
                  </a:solidFill>
                  <a:latin typeface="Arial"/>
                </a:rPr>
                <a:t>Especialista em Recursos Hídricos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Arial"/>
                </a:rPr>
                <a:t>Cláudio Pereira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3366"/>
                  </a:solidFill>
                  <a:latin typeface="Arial"/>
                </a:rPr>
                <a:t>Especialista em Recursos Hídricos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pt-BR" sz="2000" spc="-1" strike="noStrike">
                  <a:solidFill>
                    <a:srgbClr val="003366"/>
                  </a:solidFill>
                  <a:latin typeface="Arial"/>
                </a:rPr>
                <a:t>Marianne da Silva Santo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3366"/>
                  </a:solidFill>
                  <a:latin typeface="Arial"/>
                </a:rPr>
                <a:t>Estagiária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5280480" y="2597040"/>
              <a:ext cx="3559680" cy="21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Arial"/>
                </a:rPr>
                <a:t>Gláucia Maria Oliveira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3366"/>
                  </a:solidFill>
                  <a:latin typeface="Arial"/>
                </a:rPr>
                <a:t>Assistent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Arial"/>
                </a:rPr>
                <a:t>Gracyreny R. dos Santo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3366"/>
                  </a:solidFill>
                  <a:latin typeface="Arial"/>
                </a:rPr>
                <a:t>Assistent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Arial"/>
                </a:rPr>
                <a:t>Geison de F. Laport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3366"/>
                  </a:solidFill>
                  <a:latin typeface="Arial"/>
                </a:rPr>
                <a:t>Assistent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6" name="Rectangle 10"/>
          <p:cNvSpPr/>
          <p:nvPr/>
        </p:nvSpPr>
        <p:spPr>
          <a:xfrm>
            <a:off x="4319640" y="1557360"/>
            <a:ext cx="5529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Patrick Tho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Tahoma"/>
              </a:rPr>
              <a:t>Gerente de Cobrança pelo Uso de Recurso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Tahoma"/>
              </a:rPr>
              <a:t>Fundos  Estaduais de Recursos Hídricos</a:t>
            </a:r>
            <a:endParaRPr b="1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graphicFrame>
        <p:nvGraphicFramePr>
          <p:cNvPr id="52" name="Object 95"/>
          <p:cNvGraphicFramePr/>
          <p:nvPr/>
        </p:nvGraphicFramePr>
        <p:xfrm>
          <a:off x="272880" y="2133720"/>
          <a:ext cx="9433080" cy="59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2133720"/>
                    <a:ext cx="94330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97"/>
          <p:cNvSpPr/>
          <p:nvPr/>
        </p:nvSpPr>
        <p:spPr>
          <a:xfrm>
            <a:off x="2216880" y="1557360"/>
            <a:ext cx="57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Estados que responderam ao questionário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5" name="Object 101"/>
          <p:cNvGraphicFramePr/>
          <p:nvPr/>
        </p:nvGraphicFramePr>
        <p:xfrm>
          <a:off x="344520" y="3716280"/>
          <a:ext cx="9345600" cy="2109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3716280"/>
                    <a:ext cx="934560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103"/>
          <p:cNvSpPr/>
          <p:nvPr/>
        </p:nvSpPr>
        <p:spPr>
          <a:xfrm>
            <a:off x="2209680" y="3068640"/>
            <a:ext cx="56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Estados que não têm fundo criado por lei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Tahoma"/>
              </a:rPr>
              <a:t>Fundos  Estaduais de Recursos Hídricos</a:t>
            </a:r>
            <a:endParaRPr b="1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88880" y="1916280"/>
          <a:ext cx="8915400" cy="230184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Estados com fundo sem regulamentação: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MS, PB e PI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Estados com fundo, com regulamentação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ES, SP, RJ, MG e PR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13"/>
          <p:cNvGraphicFramePr/>
          <p:nvPr/>
        </p:nvGraphicFramePr>
        <p:xfrm>
          <a:off x="0" y="-33480"/>
          <a:ext cx="9850320" cy="686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3480"/>
                    <a:ext cx="985032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8"/>
          <p:cNvSpPr/>
          <p:nvPr/>
        </p:nvSpPr>
        <p:spPr>
          <a:xfrm>
            <a:off x="128520" y="1410480"/>
            <a:ext cx="9777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2) Informar quando couber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a) As razões de não ter sido possível aportar ao fundo o percentual dos recursos provenientes da Compensação Financeira pela Utilização de Recursos Hídricos que o Estado recebeu, nos termos da legislação estadual específica, durante o ano de 2008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Tahoma"/>
              </a:rPr>
              <a:t>Fundos  Estaduais de Recursos Hídricos</a:t>
            </a:r>
            <a:endParaRPr b="1" lang="en-US" sz="32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11360" y="4906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Tahoma"/>
              </a:rPr>
              <a:t>Fundos  Estaduais de Recursos Hídric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Rectangle 86"/>
          <p:cNvSpPr/>
          <p:nvPr/>
        </p:nvSpPr>
        <p:spPr>
          <a:xfrm>
            <a:off x="144360" y="1411560"/>
            <a:ext cx="96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b) As dificuldades que vêm impedindo que uma parte dos recursos que têm sido depositados no fundo não vem sendo contratados e/ou gasto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Text Box 87"/>
          <p:cNvSpPr/>
          <p:nvPr/>
        </p:nvSpPr>
        <p:spPr>
          <a:xfrm>
            <a:off x="704160" y="220500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Minas Gerais: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Text Box 89"/>
          <p:cNvSpPr/>
          <p:nvPr/>
        </p:nvSpPr>
        <p:spPr>
          <a:xfrm>
            <a:off x="792000" y="2682720"/>
            <a:ext cx="86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Alteração da regulamentação, transferindo a competência de Agente Executor do BDMG para a SEMAD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Text Box 90"/>
          <p:cNvSpPr/>
          <p:nvPr/>
        </p:nvSpPr>
        <p:spPr>
          <a:xfrm>
            <a:off x="751320" y="357336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o de Janeiro: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Rectangle 91"/>
          <p:cNvSpPr/>
          <p:nvPr/>
        </p:nvSpPr>
        <p:spPr>
          <a:xfrm>
            <a:off x="704880" y="4069080"/>
            <a:ext cx="920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A diversidade de instâncias governamentais para apreciação e autorização para  celebração de Convênios, no que tange à Política de Recursos Hídricos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A deficiência de apoio técnico e estrutural das Secretarias Executivas dos Comitês, o que dificulta a gestão dos Projetos, Programas e o acesso aos recursos do FUNDRHI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595440" y="2370600"/>
            <a:ext cx="892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Os tomadores de recursos apresentam projetos, que não são aprovados pelos Agentes Técnicos e, portanto não podem ser contratado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Os tomadores desistem da execução dos projetos contratados antes de receberem a primeira parcela do contrat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Os tomadores atrasam em vários meses a execução dos projeto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87"/>
          <p:cNvSpPr/>
          <p:nvPr/>
        </p:nvSpPr>
        <p:spPr>
          <a:xfrm>
            <a:off x="713160" y="164304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São Paulo: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28520" y="1339920"/>
            <a:ext cx="93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c) Quais alterações foram feitas na legislação referente ao fundo em 2007 e 2008.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00160" y="2396880"/>
            <a:ext cx="93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Lei nº. 16.908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, de 03/08/07, permitiu o repasse antecipado da 1ª parcela ao proponente (regulamentada pelo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Decreto nº. 44.666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, de 03/12/07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00160" y="3517920"/>
            <a:ext cx="970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o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Decreto nº. 44.843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, 24/06/08, alterou a competência do BDMG de agente financeiro da modalidade não-reembolsável do FHIDRO e repassou-a à SEMAD, que passou a ser a agente executora do Fundo. A partir de então, as parcerias com os proponentes dos projetos foram formalizadas por meio de convênios e não mais por contratos de repasse como anteriormente ocorria, competindo ainda ao Banco a gestão e liberação de recursos para aqueles já contratados.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99440" y="220500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Minas Gerais: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8"/>
          <p:cNvSpPr/>
          <p:nvPr/>
        </p:nvSpPr>
        <p:spPr>
          <a:xfrm>
            <a:off x="208440" y="142884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o de Janeiro: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37960" y="2020320"/>
            <a:ext cx="93585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A Lei 5.234 de 05 de maio de 2008, altera a Lei nº 4.247, de 16 de dezembro de 2003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Edição da Portaria nº 605/2008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Edição da Portaria nº 555/2007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Edição da Portaria nº 564/2007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Edição da Portaria nº 565/2007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tângulo 3"/>
          <p:cNvSpPr/>
          <p:nvPr/>
        </p:nvSpPr>
        <p:spPr>
          <a:xfrm>
            <a:off x="237960" y="5143680"/>
            <a:ext cx="935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Em 2007 o FEHIDRO foi transferido da Secretaria de Saneamento e Energia para  a Secretaria do Meio Ambi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46600" y="46432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São Paulo: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Rodrigo</cp:lastModifiedBy>
  <cp:lastPrinted>2001-06-06T00:02:34Z</cp:lastPrinted>
  <dcterms:modified xsi:type="dcterms:W3CDTF">2009-10-05T20:39:47Z</dcterms:modified>
  <cp:revision>1161</cp:revision>
  <dc:subject/>
  <dc:title>Apresentação do PowerPoint</dc:title>
</cp:coreProperties>
</file>